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C94-F23A-4C96-804C-E74F184A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2BD-CB2E-4B2B-9C97-6EE4B3CB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86A-853A-457D-A3D1-9702AE33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D0B-D60A-4281-8CD0-C9837114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03F-6C5F-47BF-9A38-ABD33C8A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92D-315C-493B-ABC2-03B9235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DA6-0B01-49E6-96A3-88F68E4E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EF3-40E7-4137-A1C7-85BC6BA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C00D-F829-41A0-990E-470FEF2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BE1-6870-4465-BF42-AE1CDC9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011-C9E7-46C7-86E3-9DBFC89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037-30C4-4BC3-B702-C9DD56D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01A37B-19B8-4798-9B87-0CF73A34A3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D9F0B-969E-4955-ACC9-96E0ED3ED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6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ipping the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989000" y="2840040"/>
            <a:ext cx="547704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it mean to “Fli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ypically presented in class (i.e. lec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, background knowledge, or real lif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 by a live teacher, students rece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home via a podcast, YouTube video, and/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online re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4572000" y="4438800"/>
            <a:ext cx="403848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it mean to “Flip?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ypically given as homework is don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with the assistance of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747880" y="3184560"/>
            <a:ext cx="374652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lipped Classroom is NO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online 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replacing teachers with 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nline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orking without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orking in iso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spending the entire class on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969160" y="5075280"/>
            <a:ext cx="271764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Flipped Classroo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means to increase teacher contact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 environment that increases student responsi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lending of direct instruction and constructivist learn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ll students are engag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bsent students won’t fall behi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ass where all students are engaged in their learning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echnology to give students “control of their interactions has a positiv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ellent video lectures are freely/easi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for hands-on learning and creative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970600" y="4473720"/>
            <a:ext cx="2716200" cy="200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3:40:00Z</dcterms:created>
  <dc:creator>sharma</dc:creator>
  <dc:description/>
  <dc:language>en-US</dc:language>
  <cp:lastModifiedBy>Tyler Daughtry</cp:lastModifiedBy>
  <dcterms:modified xsi:type="dcterms:W3CDTF">2013-11-12T16:42:00Z</dcterms:modified>
  <cp:revision>4</cp:revision>
  <dc:subject/>
  <dc:title>Flipping the Classroom</dc:title>
</cp:coreProperties>
</file>